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25F-F54E-41F1-A527-53F3101E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036-B94D-495C-8117-B0B0B610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C78-E0E8-4A16-99DA-0A7426D3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F0A-A51D-4093-B08F-6B9AD7B7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25B33-D5DC-4348-92B5-A0A42322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622C7-1300-4DB5-ADCB-276BFC01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52BF9-9E2C-44D9-9601-4EABAE09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E3835-EF83-4862-92AF-53B1D6B5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292D1-AAE4-4D18-B3D9-6CD7DDEB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EE417-C59F-461D-AA50-1A567CB6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49608-C010-4999-8BCA-59FAF78C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F71C-94A3-4F9C-B48E-9E79101F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46FE7-D840-40F6-B8D5-1A38265B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D357A-3A68-42BB-86BF-134E0048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405E3-1365-4740-8595-81E59E8B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94751-C495-4DFC-92A5-7E3A77B6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93A30-788E-4783-A8E2-AAB97548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82D-58BF-4005-B2D1-DE2F136A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3209-2B40-42CA-9E73-BB7207F6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C9D-09B1-4C6E-9F2F-E29CB26E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74E-722E-44CC-8723-B9735F0C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77C-50BF-4064-AF4F-A032FDE8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AEC-EB73-4459-8FA4-615C3176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BF77-0326-4DB8-ADA7-CE525EED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29FD-141C-49D8-8CD2-C1CC601D02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60C9-3A80-4E58-95F8-A5DDD734F3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French Script MT"/>
              </a:rPr>
              <a:t>Le Rosecliff Château 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71440"/>
            <a:ext cx="640080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French Script MT"/>
              </a:rPr>
              <a:t>By Samantha LeBlan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Freestyle Script"/>
              </a:rPr>
              <a:t>Le Rosecliff Ch</a:t>
            </a:r>
            <a:r>
              <a:rPr b="0" lang="en-US" sz="4400" spc="-1" strike="noStrike">
                <a:solidFill>
                  <a:srgbClr val="00ffcc"/>
                </a:solidFill>
                <a:latin typeface="Freestyle Script"/>
                <a:ea typeface="Arial"/>
              </a:rPr>
              <a:t>â</a:t>
            </a:r>
            <a:r>
              <a:rPr b="0" lang="en-US" sz="4400" spc="-1" strike="noStrike">
                <a:solidFill>
                  <a:srgbClr val="00ffcc"/>
                </a:solidFill>
                <a:latin typeface="Freestyle Script"/>
              </a:rPr>
              <a:t>tea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Lucida Handwriting"/>
                <a:ea typeface="Arial"/>
              </a:rPr>
              <a:t>Les mur sont blanc et bel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Lucida Handwriting"/>
                <a:ea typeface="Arial"/>
              </a:rPr>
              <a:t>M. et MME. J. Edgar Monroe Ont’habite ic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rosecliff-newport-rhode-island"/>
          <p:cNvPicPr/>
          <p:nvPr/>
        </p:nvPicPr>
        <p:blipFill>
          <a:blip r:embed="rId1"/>
          <a:stretch/>
        </p:blipFill>
        <p:spPr>
          <a:xfrm>
            <a:off x="4572000" y="2971800"/>
            <a:ext cx="457200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French Script MT"/>
              </a:rPr>
              <a:t>Le Sal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Handwriting"/>
              </a:rPr>
              <a:t>C’est le sal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Handwriting"/>
              </a:rPr>
              <a:t>Le mur est marron et les chaise sont blan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rosecliff-salon"/>
          <p:cNvPicPr/>
          <p:nvPr/>
        </p:nvPicPr>
        <p:blipFill>
          <a:blip r:embed="rId1"/>
          <a:stretch/>
        </p:blipFill>
        <p:spPr>
          <a:xfrm>
            <a:off x="5477040" y="2262240"/>
            <a:ext cx="3286080" cy="25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French Script MT"/>
              </a:rPr>
              <a:t>La Salle </a:t>
            </a:r>
            <a:r>
              <a:rPr b="0" lang="en-US" sz="4400" spc="-1" strike="noStrike">
                <a:solidFill>
                  <a:srgbClr val="a50021"/>
                </a:solidFill>
                <a:latin typeface="French Script MT"/>
                <a:ea typeface="Arial"/>
              </a:rPr>
              <a:t>à Mang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Lucida Handwriting"/>
                <a:ea typeface="Arial"/>
              </a:rPr>
              <a:t>La salle à manger est blanche et marr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Lucida Handwriting"/>
                <a:ea typeface="Arial"/>
              </a:rPr>
              <a:t>Les chaise sontnoir et marr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rosecliff-newport-ri-dining-room"/>
          <p:cNvPicPr/>
          <p:nvPr/>
        </p:nvPicPr>
        <p:blipFill>
          <a:blip r:embed="rId1"/>
          <a:stretch/>
        </p:blipFill>
        <p:spPr>
          <a:xfrm>
            <a:off x="4648320" y="2898720"/>
            <a:ext cx="4495680" cy="17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French Script MT"/>
              </a:rPr>
              <a:t>La Terras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Lucida Handwriting"/>
              </a:rPr>
              <a:t>C’est la terr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Lucida Handwriting"/>
              </a:rPr>
              <a:t>La terrase est jol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Content Placeholder 4" descr="rosecliff-newport-ri-event.jpg"/>
          <p:cNvPicPr/>
          <p:nvPr/>
        </p:nvPicPr>
        <p:blipFill>
          <a:blip r:embed="rId1"/>
          <a:stretch/>
        </p:blipFill>
        <p:spPr>
          <a:xfrm>
            <a:off x="4648320" y="3067200"/>
            <a:ext cx="403848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French Script MT"/>
              </a:rPr>
              <a:t>Le Jard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97a0"/>
                </a:solidFill>
                <a:latin typeface="Lucida Handwriting"/>
              </a:rPr>
              <a:t>Le Jardin est beau et bel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Lucida Handwriti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97a0"/>
                </a:solidFill>
                <a:latin typeface="Lucida Handwriting"/>
              </a:rPr>
              <a:t>Les fleurs sont dans le Jard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Content Placeholder 4" descr="rosecliff.jpg"/>
          <p:cNvPicPr/>
          <p:nvPr/>
        </p:nvPicPr>
        <p:blipFill>
          <a:blip r:embed="rId1"/>
          <a:stretch/>
        </p:blipFill>
        <p:spPr>
          <a:xfrm>
            <a:off x="5257800" y="2209680"/>
            <a:ext cx="3516480" cy="276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8:48:24Z</dcterms:created>
  <dc:creator>leblancsam</dc:creator>
  <dc:description/>
  <dc:language>en-US</dc:language>
  <cp:lastModifiedBy>leblancsam</cp:lastModifiedBy>
  <dcterms:modified xsi:type="dcterms:W3CDTF">2011-11-14T16:52:37Z</dcterms:modified>
  <cp:revision>21</cp:revision>
  <dc:subject/>
  <dc:title>The Rosecliff Mansion</dc:title>
</cp:coreProperties>
</file>